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6440" y="1936800"/>
            <a:ext cx="860724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MOD Alpha Release 0.002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cott C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What this release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do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l scripts for loading ontologies and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sion 1.61 of Gbrow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ple data (bastardized version of SGD GFF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sonably user friendly install via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What this release does not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ols for loading and dumping chado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11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ch means Apollo doesn't work with this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ly good documentation—but it is getting bet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er's Guide compliance--`make install` doesn't put anything in GMOD_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endence on SQL::Trans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hort term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t XML loading and dump installing and working clea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gin testing of Apollo round-tripping—with the understanding that initially, it may not work perf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ve `make install` populate GMOD_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bilize GFF load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rporate turnkey for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ntermediate term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t other applications running on top of chado, like Pub* and C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move hard coded passwords from Class::DBI modules (requires help from SQL::Translator auth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 a method for updat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ng term goal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ld-wide do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requi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l (probably 5.6.1 or bet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stgresql (7.3 or bet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oPerl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y perl modules, notably Class::D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ow the install go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l Makefile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load_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prep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4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mod_load_gff3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